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69CA-152B-415C-AA95-D04780784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22320" y="104400"/>
            <a:ext cx="78948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d71f1b"/>
              </a:solidFill>
              <a:latin typeface="Microsoft YaHe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22320" y="1339920"/>
            <a:ext cx="78948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22320" y="3950280"/>
            <a:ext cx="78948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444B-3EC5-4EA5-9C00-4B69F7330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22320" y="104400"/>
            <a:ext cx="78948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d71f1b"/>
              </a:solidFill>
              <a:latin typeface="Microsoft YaHe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22320" y="1339920"/>
            <a:ext cx="38523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7640" y="1339920"/>
            <a:ext cx="38523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22320" y="3950280"/>
            <a:ext cx="38523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7640" y="3950280"/>
            <a:ext cx="38523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2954-470B-4BBE-B903-DBEAEBF72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22320" y="104400"/>
            <a:ext cx="78948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d71f1b"/>
              </a:solidFill>
              <a:latin typeface="Microsoft YaHe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22320" y="1339920"/>
            <a:ext cx="2541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1720" y="1339920"/>
            <a:ext cx="2541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1120" y="1339920"/>
            <a:ext cx="2541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22320" y="3950280"/>
            <a:ext cx="2541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1720" y="3950280"/>
            <a:ext cx="2541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1120" y="3950280"/>
            <a:ext cx="2541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6E33-4CC8-44D0-933F-CBE50D94C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CB6016-D33B-4B2F-8968-F2ECC687A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22320" y="104400"/>
            <a:ext cx="78948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d71f1b"/>
              </a:solidFill>
              <a:latin typeface="Microsoft YaHe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922320" y="1339920"/>
            <a:ext cx="789480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spcBef>
                <a:spcPts val="1012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000" spc="-1" strike="noStrike">
              <a:solidFill>
                <a:srgbClr val="ffffff"/>
              </a:solidFill>
              <a:latin typeface="Microsoft YaHe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176F96-C01B-48F7-B3A8-7EEFD31BC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22320" y="104400"/>
            <a:ext cx="78948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d71f1b"/>
              </a:solidFill>
              <a:latin typeface="Microsoft YaHe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22320" y="1339920"/>
            <a:ext cx="7894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258AC1-4A00-4410-882D-F6FFDBDD5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22320" y="104400"/>
            <a:ext cx="78948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d71f1b"/>
              </a:solidFill>
              <a:latin typeface="Microsoft YaHe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22320" y="1339920"/>
            <a:ext cx="38523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67640" y="1339920"/>
            <a:ext cx="38523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56A838-BBC7-4C81-95BA-A2EE6BE49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22320" y="104400"/>
            <a:ext cx="78948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d71f1b"/>
              </a:solidFill>
              <a:latin typeface="Microsoft YaHe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769AC4-1B18-4F23-AE94-AFBC6A36B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922320" y="104400"/>
            <a:ext cx="789480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spcBef>
                <a:spcPts val="1012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000" spc="-1" strike="noStrike">
              <a:solidFill>
                <a:srgbClr val="ffffff"/>
              </a:solidFill>
              <a:latin typeface="Microsoft YaHe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DC4647-B62E-4D67-A4D9-3B779E474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22320" y="104400"/>
            <a:ext cx="78948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d71f1b"/>
              </a:solidFill>
              <a:latin typeface="Microsoft YaHe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22320" y="1339920"/>
            <a:ext cx="38523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67640" y="1339920"/>
            <a:ext cx="38523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922320" y="3950280"/>
            <a:ext cx="38523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F4CBAE-6345-4113-B801-E2D12891B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22320" y="104400"/>
            <a:ext cx="78948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d71f1b"/>
              </a:solidFill>
              <a:latin typeface="Microsoft YaHe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22320" y="1339920"/>
            <a:ext cx="789480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spcBef>
                <a:spcPts val="1012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000" spc="-1" strike="noStrike">
              <a:solidFill>
                <a:srgbClr val="ffffff"/>
              </a:solidFill>
              <a:latin typeface="Microsoft YaHe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0C52-9872-44A3-9705-E8245905D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22320" y="104400"/>
            <a:ext cx="78948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d71f1b"/>
              </a:solidFill>
              <a:latin typeface="Microsoft YaHe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22320" y="1339920"/>
            <a:ext cx="38523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67640" y="1339920"/>
            <a:ext cx="38523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967640" y="3950280"/>
            <a:ext cx="38523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BCFF64-183B-4515-B8EF-3378604CA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22320" y="104400"/>
            <a:ext cx="78948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d71f1b"/>
              </a:solidFill>
              <a:latin typeface="Microsoft YaHe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22320" y="1339920"/>
            <a:ext cx="38523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67640" y="1339920"/>
            <a:ext cx="38523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22320" y="3950280"/>
            <a:ext cx="78948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FB0E92-3860-4D45-BCC5-5F3180FE7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22320" y="104400"/>
            <a:ext cx="78948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d71f1b"/>
              </a:solidFill>
              <a:latin typeface="Microsoft YaHe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22320" y="1339920"/>
            <a:ext cx="78948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922320" y="3950280"/>
            <a:ext cx="78948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65BA1A-F597-4803-A64D-DE259C759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22320" y="104400"/>
            <a:ext cx="78948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d71f1b"/>
              </a:solidFill>
              <a:latin typeface="Microsoft YaHe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22320" y="1339920"/>
            <a:ext cx="38523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67640" y="1339920"/>
            <a:ext cx="38523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22320" y="3950280"/>
            <a:ext cx="38523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967640" y="3950280"/>
            <a:ext cx="38523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22301E-16CA-4B58-B037-E1EFBE862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22320" y="104400"/>
            <a:ext cx="78948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d71f1b"/>
              </a:solidFill>
              <a:latin typeface="Microsoft YaHe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22320" y="1339920"/>
            <a:ext cx="2541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91720" y="1339920"/>
            <a:ext cx="2541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61120" y="1339920"/>
            <a:ext cx="2541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922320" y="3950280"/>
            <a:ext cx="2541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91720" y="3950280"/>
            <a:ext cx="2541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61120" y="3950280"/>
            <a:ext cx="2541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D8304B-BE94-48C2-9CC1-05FBA0C23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012E85-33E7-4243-B0E7-B7A0A1461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22320" y="104400"/>
            <a:ext cx="78948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d71f1b"/>
              </a:solidFill>
              <a:latin typeface="Microsoft YaHe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922320" y="1339920"/>
            <a:ext cx="789480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spcBef>
                <a:spcPts val="1012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000" spc="-1" strike="noStrike">
              <a:solidFill>
                <a:srgbClr val="ffffff"/>
              </a:solidFill>
              <a:latin typeface="Microsoft YaHe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5AAC25-1B9E-438A-BEFB-0A34DEA8F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22320" y="104400"/>
            <a:ext cx="78948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d71f1b"/>
              </a:solidFill>
              <a:latin typeface="Microsoft YaHe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22320" y="1339920"/>
            <a:ext cx="7894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19B296-5473-41FB-B1BE-05B1534E2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22320" y="104400"/>
            <a:ext cx="78948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d71f1b"/>
              </a:solidFill>
              <a:latin typeface="Microsoft YaHe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22320" y="1339920"/>
            <a:ext cx="38523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67640" y="1339920"/>
            <a:ext cx="38523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62B113-5DDA-456B-AA60-456579774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22320" y="104400"/>
            <a:ext cx="78948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d71f1b"/>
              </a:solidFill>
              <a:latin typeface="Microsoft YaHe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397C54-C0BF-4172-B515-BD36CF44C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22320" y="104400"/>
            <a:ext cx="78948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d71f1b"/>
              </a:solidFill>
              <a:latin typeface="Microsoft YaHe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22320" y="1339920"/>
            <a:ext cx="7894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0D23-6B01-4845-88D6-4C3AFF203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922320" y="104400"/>
            <a:ext cx="789480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spcBef>
                <a:spcPts val="1012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000" spc="-1" strike="noStrike">
              <a:solidFill>
                <a:srgbClr val="ffffff"/>
              </a:solidFill>
              <a:latin typeface="Microsoft YaHe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DC5A34-645A-46A7-8E7C-2E5ACEB24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22320" y="104400"/>
            <a:ext cx="78948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d71f1b"/>
              </a:solidFill>
              <a:latin typeface="Microsoft YaHe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22320" y="1339920"/>
            <a:ext cx="38523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67640" y="1339920"/>
            <a:ext cx="38523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922320" y="3950280"/>
            <a:ext cx="38523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47468E-7263-41DB-9971-73E8C471A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22320" y="104400"/>
            <a:ext cx="78948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d71f1b"/>
              </a:solidFill>
              <a:latin typeface="Microsoft YaHe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22320" y="1339920"/>
            <a:ext cx="38523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67640" y="1339920"/>
            <a:ext cx="38523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967640" y="3950280"/>
            <a:ext cx="38523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90B52F-D21C-4926-A843-D5DCE223F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22320" y="104400"/>
            <a:ext cx="78948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d71f1b"/>
              </a:solidFill>
              <a:latin typeface="Microsoft YaHe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22320" y="1339920"/>
            <a:ext cx="38523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67640" y="1339920"/>
            <a:ext cx="38523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22320" y="3950280"/>
            <a:ext cx="78948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633E6B-B66C-496B-91A7-8F285D9DC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22320" y="104400"/>
            <a:ext cx="78948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d71f1b"/>
              </a:solidFill>
              <a:latin typeface="Microsoft YaHe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22320" y="1339920"/>
            <a:ext cx="78948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922320" y="3950280"/>
            <a:ext cx="78948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5A8291-44AD-4931-B534-F99EC0276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22320" y="104400"/>
            <a:ext cx="78948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d71f1b"/>
              </a:solidFill>
              <a:latin typeface="Microsoft YaHe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22320" y="1339920"/>
            <a:ext cx="38523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67640" y="1339920"/>
            <a:ext cx="38523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922320" y="3950280"/>
            <a:ext cx="38523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967640" y="3950280"/>
            <a:ext cx="38523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D034BF-32AE-4C44-B441-ADEC634D9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22320" y="104400"/>
            <a:ext cx="78948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d71f1b"/>
              </a:solidFill>
              <a:latin typeface="Microsoft YaHe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22320" y="1339920"/>
            <a:ext cx="2541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91720" y="1339920"/>
            <a:ext cx="2541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261120" y="1339920"/>
            <a:ext cx="2541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922320" y="3950280"/>
            <a:ext cx="2541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591720" y="3950280"/>
            <a:ext cx="2541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261120" y="3950280"/>
            <a:ext cx="2541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9F5C68-5D24-4366-B1F8-CF807732D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22320" y="104400"/>
            <a:ext cx="78948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d71f1b"/>
              </a:solidFill>
              <a:latin typeface="Microsoft YaHe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22320" y="1339920"/>
            <a:ext cx="38523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67640" y="1339920"/>
            <a:ext cx="38523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DC10-5E4C-4414-8911-2EDBEC9FA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22320" y="104400"/>
            <a:ext cx="78948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d71f1b"/>
              </a:solidFill>
              <a:latin typeface="Microsoft YaHe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039A-97AB-432D-B572-34F2DD889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22320" y="104400"/>
            <a:ext cx="789480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spcBef>
                <a:spcPts val="1012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000" spc="-1" strike="noStrike">
              <a:solidFill>
                <a:srgbClr val="ffffff"/>
              </a:solidFill>
              <a:latin typeface="Microsoft YaHe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99B6-D5C1-4CA6-829D-C27C2C70F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22320" y="104400"/>
            <a:ext cx="78948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d71f1b"/>
              </a:solidFill>
              <a:latin typeface="Microsoft YaHe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22320" y="1339920"/>
            <a:ext cx="38523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7640" y="1339920"/>
            <a:ext cx="38523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22320" y="3950280"/>
            <a:ext cx="38523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E021-976B-41AF-A656-74A8223C4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22320" y="104400"/>
            <a:ext cx="78948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d71f1b"/>
              </a:solidFill>
              <a:latin typeface="Microsoft YaHe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22320" y="1339920"/>
            <a:ext cx="38523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7640" y="1339920"/>
            <a:ext cx="38523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67640" y="3950280"/>
            <a:ext cx="38523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5E73-4EE6-4209-BD6A-263F5FAA3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22320" y="104400"/>
            <a:ext cx="78948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d71f1b"/>
              </a:solidFill>
              <a:latin typeface="Microsoft YaHe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22320" y="1339920"/>
            <a:ext cx="38523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7640" y="1339920"/>
            <a:ext cx="38523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22320" y="3950280"/>
            <a:ext cx="78948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B772-1995-49B6-B087-229834745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D6387-DC6E-4D39-B668-25D59FD215D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22320" y="104400"/>
            <a:ext cx="78948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3200" spc="-1" strike="noStrike">
                <a:solidFill>
                  <a:srgbClr val="d71f1b"/>
                </a:solidFill>
                <a:latin typeface="Microsoft YaHei"/>
              </a:rPr>
              <a:t>Click to edit the title text format</a:t>
            </a:r>
            <a:endParaRPr b="1" lang="en-US" sz="3200" spc="-1" strike="noStrike">
              <a:solidFill>
                <a:srgbClr val="d71f1b"/>
              </a:solidFill>
              <a:latin typeface="Microsoft YaHe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9d9d9d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66923-C8A8-41D8-BBC1-6A635C5474C5}" type="slidenum">
              <a:rPr b="0" lang="zh-CN" sz="1000" spc="-1" strike="noStrike">
                <a:solidFill>
                  <a:srgbClr val="9d9d9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22320" y="1339920"/>
            <a:ext cx="7894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1012"/>
              </a:spcBef>
              <a:buClr>
                <a:srgbClr val="ea5b58"/>
              </a:buClr>
              <a:buSzPct val="80000"/>
              <a:buFont typeface="Wingdings 2" charset="2"/>
              <a:buChar char="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400" spc="-1" strike="noStrike">
                <a:solidFill>
                  <a:srgbClr val="ea5b58"/>
                </a:solidFill>
                <a:latin typeface="Microsoft YaHei"/>
              </a:rPr>
              <a:t>Click to edit the outline text format</a:t>
            </a: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  <a:p>
            <a:pPr lvl="1" marL="361800" indent="-361800" algn="just">
              <a:lnSpc>
                <a:spcPct val="110000"/>
              </a:lnSpc>
              <a:spcBef>
                <a:spcPts val="1012"/>
              </a:spcBef>
              <a:buClr>
                <a:srgbClr val="e39ebf"/>
              </a:buClr>
              <a:buFont typeface="幼圆"/>
              <a:buChar char=" 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400" spc="-1" strike="noStrike">
                <a:solidFill>
                  <a:srgbClr val="ea5b58"/>
                </a:solidFill>
                <a:latin typeface="Microsoft YaHei"/>
              </a:rPr>
              <a:t>Second Outline Level</a:t>
            </a: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  <a:p>
            <a:pPr lvl="2" marL="642960" indent="-128520" algn="just">
              <a:lnSpc>
                <a:spcPct val="110000"/>
              </a:lnSpc>
              <a:spcBef>
                <a:spcPts val="1012"/>
              </a:spcBef>
              <a:buClr>
                <a:srgbClr val="5f5f5f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400" spc="-1" strike="noStrike">
                <a:solidFill>
                  <a:srgbClr val="ea5b58"/>
                </a:solidFill>
                <a:latin typeface="Microsoft YaHei"/>
              </a:rPr>
              <a:t>Third Outline Level</a:t>
            </a: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  <a:p>
            <a:pPr lvl="3" marL="900000" indent="-128520" algn="just">
              <a:lnSpc>
                <a:spcPct val="110000"/>
              </a:lnSpc>
              <a:spcBef>
                <a:spcPts val="1012"/>
              </a:spcBef>
              <a:buClr>
                <a:srgbClr val="5f5f5f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400" spc="-1" strike="noStrike">
                <a:solidFill>
                  <a:srgbClr val="ea5b58"/>
                </a:solidFill>
                <a:latin typeface="Microsoft YaHei"/>
              </a:rPr>
              <a:t>Fourth Outline Level</a:t>
            </a: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  <a:p>
            <a:pPr lvl="4" marL="1157400" indent="-128520" algn="just">
              <a:lnSpc>
                <a:spcPct val="110000"/>
              </a:lnSpc>
              <a:spcBef>
                <a:spcPts val="1012"/>
              </a:spcBef>
              <a:buClr>
                <a:srgbClr val="5f5f5f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400" spc="-1" strike="noStrike">
                <a:solidFill>
                  <a:srgbClr val="ea5b58"/>
                </a:solidFill>
                <a:latin typeface="Microsoft YaHei"/>
              </a:rPr>
              <a:t>Fifth Outline Level</a:t>
            </a: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  <a:p>
            <a:pPr lvl="5" marL="1157400" indent="-128520" algn="just">
              <a:lnSpc>
                <a:spcPct val="110000"/>
              </a:lnSpc>
              <a:spcBef>
                <a:spcPts val="1012"/>
              </a:spcBef>
              <a:buClr>
                <a:srgbClr val="5f5f5f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400" spc="-1" strike="noStrike">
                <a:solidFill>
                  <a:srgbClr val="ea5b58"/>
                </a:solidFill>
                <a:latin typeface="Microsoft YaHei"/>
              </a:rPr>
              <a:t>Sixth Outline Level</a:t>
            </a: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  <a:p>
            <a:pPr lvl="6" marL="1157400" indent="-128520" algn="just">
              <a:lnSpc>
                <a:spcPct val="110000"/>
              </a:lnSpc>
              <a:spcBef>
                <a:spcPts val="1012"/>
              </a:spcBef>
              <a:buClr>
                <a:srgbClr val="5f5f5f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400" spc="-1" strike="noStrike">
                <a:solidFill>
                  <a:srgbClr val="ea5b58"/>
                </a:solidFill>
                <a:latin typeface="Microsoft YaHei"/>
              </a:rPr>
              <a:t>Seventh Outline Level</a:t>
            </a: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45" name="矩形 14"/>
          <p:cNvSpPr/>
          <p:nvPr/>
        </p:nvSpPr>
        <p:spPr>
          <a:xfrm>
            <a:off x="0" y="-28440"/>
            <a:ext cx="735120" cy="6886440"/>
          </a:xfrm>
          <a:prstGeom prst="rect">
            <a:avLst/>
          </a:prstGeom>
          <a:solidFill>
            <a:srgbClr val="e745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15"/>
          <p:cNvSpPr/>
          <p:nvPr/>
        </p:nvSpPr>
        <p:spPr>
          <a:xfrm>
            <a:off x="0" y="866880"/>
            <a:ext cx="9144000" cy="384120"/>
          </a:xfrm>
          <a:prstGeom prst="rect">
            <a:avLst/>
          </a:prstGeom>
          <a:solidFill>
            <a:srgbClr val="e745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6"/>
          <p:cNvSpPr/>
          <p:nvPr/>
        </p:nvSpPr>
        <p:spPr>
          <a:xfrm>
            <a:off x="0" y="866880"/>
            <a:ext cx="735120" cy="38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dt" idx="6"/>
          </p:nvPr>
        </p:nvSpPr>
        <p:spPr>
          <a:xfrm>
            <a:off x="77112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9d9d9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9"/>
          <p:cNvSpPr/>
          <p:nvPr/>
        </p:nvSpPr>
        <p:spPr>
          <a:xfrm>
            <a:off x="1333440" y="0"/>
            <a:ext cx="7810560" cy="6858000"/>
          </a:xfrm>
          <a:prstGeom prst="rect">
            <a:avLst/>
          </a:prstGeom>
          <a:solidFill>
            <a:srgbClr val="e745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0"/>
          <p:cNvSpPr/>
          <p:nvPr/>
        </p:nvSpPr>
        <p:spPr>
          <a:xfrm>
            <a:off x="0" y="1407960"/>
            <a:ext cx="9144000" cy="46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1"/>
          <p:cNvSpPr/>
          <p:nvPr/>
        </p:nvSpPr>
        <p:spPr>
          <a:xfrm>
            <a:off x="0" y="1407960"/>
            <a:ext cx="1333440" cy="460440"/>
          </a:xfrm>
          <a:prstGeom prst="rect">
            <a:avLst/>
          </a:prstGeom>
          <a:solidFill>
            <a:srgbClr val="e745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90480" y="2387520"/>
            <a:ext cx="66481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icrosoft YaHei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Microsoft YaHe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9d9d9d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5C012-933D-458B-BBA0-AF73D6EDDB41}" type="slidenum">
              <a:rPr b="0" lang="zh-CN" sz="1000" spc="-1" strike="noStrike">
                <a:solidFill>
                  <a:srgbClr val="9d9d9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9d9d9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012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YaHei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Microsoft YaHei"/>
            </a:endParaRPr>
          </a:p>
          <a:p>
            <a:pPr lvl="1" indent="0" algn="ctr">
              <a:lnSpc>
                <a:spcPct val="150000"/>
              </a:lnSpc>
              <a:spcAft>
                <a:spcPts val="337"/>
              </a:spcAft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幼圆"/>
              </a:rPr>
              <a:t>Second Outline Level</a:t>
            </a:r>
            <a:endParaRPr b="0" lang="en-US" sz="1600" spc="-1" strike="noStrike">
              <a:solidFill>
                <a:srgbClr val="5f5f5f"/>
              </a:solidFill>
              <a:latin typeface="幼圆"/>
            </a:endParaRPr>
          </a:p>
          <a:p>
            <a:pPr lvl="2" marL="514440" algn="ctr">
              <a:lnSpc>
                <a:spcPct val="90000"/>
              </a:lnSpc>
              <a:spcBef>
                <a:spcPts val="275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Calibri"/>
              </a:rPr>
              <a:t>Third Outline Level</a:t>
            </a:r>
            <a:endParaRPr b="0" lang="en-US" sz="1100" spc="-1" strike="noStrike">
              <a:solidFill>
                <a:srgbClr val="5f5f5f"/>
              </a:solidFill>
              <a:latin typeface="Calibri"/>
            </a:endParaRPr>
          </a:p>
          <a:p>
            <a:pPr lvl="3" marL="771480" algn="ctr">
              <a:lnSpc>
                <a:spcPct val="90000"/>
              </a:lnSpc>
              <a:spcBef>
                <a:spcPts val="275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Calibri"/>
              </a:rPr>
              <a:t>Fourth Outline Level</a:t>
            </a:r>
            <a:endParaRPr b="0" lang="en-US" sz="1000" spc="-1" strike="noStrike">
              <a:solidFill>
                <a:srgbClr val="5f5f5f"/>
              </a:solidFill>
              <a:latin typeface="Calibri"/>
            </a:endParaRPr>
          </a:p>
          <a:p>
            <a:pPr lvl="4" marL="1028880" algn="ctr">
              <a:lnSpc>
                <a:spcPct val="90000"/>
              </a:lnSpc>
              <a:spcBef>
                <a:spcPts val="275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Calibri"/>
              </a:rPr>
              <a:t>Fifth Outline Level</a:t>
            </a:r>
            <a:endParaRPr b="0" lang="en-US" sz="1000" spc="-1" strike="noStrike">
              <a:solidFill>
                <a:srgbClr val="5f5f5f"/>
              </a:solidFill>
              <a:latin typeface="Calibri"/>
            </a:endParaRPr>
          </a:p>
          <a:p>
            <a:pPr lvl="5" marL="1028880">
              <a:spcBef>
                <a:spcPts val="24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Calibri"/>
              </a:rPr>
              <a:t>Sixth Outline Level</a:t>
            </a:r>
            <a:endParaRPr b="0" lang="en-US" sz="1000" spc="-1" strike="noStrike">
              <a:solidFill>
                <a:srgbClr val="5f5f5f"/>
              </a:solidFill>
              <a:latin typeface="Calibri"/>
            </a:endParaRPr>
          </a:p>
          <a:p>
            <a:pPr lvl="6" marL="1028880">
              <a:spcBef>
                <a:spcPts val="24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Calibri"/>
              </a:rPr>
              <a:t>Seventh Outline Level</a:t>
            </a:r>
            <a:endParaRPr b="0" lang="en-US" sz="1000" spc="-1" strike="noStrike">
              <a:solidFill>
                <a:srgbClr val="5f5f5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90480" y="2387520"/>
            <a:ext cx="6648120" cy="20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br>
              <a:rPr sz="5400"/>
            </a:br>
            <a:endParaRPr b="1" lang="en-US" sz="5400" spc="-1" strike="noStrike">
              <a:solidFill>
                <a:srgbClr val="ffffff"/>
              </a:solidFill>
              <a:latin typeface="Microsoft YaHe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900480" y="4684680"/>
            <a:ext cx="13590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1012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Microsoft YaHei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Microsoft YaHei"/>
            </a:endParaRPr>
          </a:p>
        </p:txBody>
      </p:sp>
      <p:sp>
        <p:nvSpPr>
          <p:cNvPr id="131" name=""/>
          <p:cNvSpPr/>
          <p:nvPr/>
        </p:nvSpPr>
        <p:spPr>
          <a:xfrm>
            <a:off x="2936880" y="977760"/>
            <a:ext cx="3414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901880" y="2438280"/>
            <a:ext cx="63594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000" spc="-1" strike="noStrike">
                <a:solidFill>
                  <a:srgbClr val="5f5f5f"/>
                </a:solidFill>
                <a:latin typeface="Arial"/>
              </a:rPr>
              <a:t>벤처창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000" spc="-1" strike="noStrike">
                <a:solidFill>
                  <a:srgbClr val="5f5f5f"/>
                </a:solidFill>
                <a:latin typeface="Arial"/>
              </a:rPr>
              <a:t>                                                                        </a:t>
            </a:r>
            <a:r>
              <a:rPr b="1" lang="ko-KR" sz="1800" spc="-1" strike="noStrike">
                <a:solidFill>
                  <a:srgbClr val="5f5f5f"/>
                </a:solidFill>
                <a:latin typeface="Arial"/>
              </a:rPr>
              <a:t>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5f5f5f"/>
                </a:solidFill>
                <a:latin typeface="Arial"/>
              </a:rPr>
              <a:t>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22320" y="104400"/>
            <a:ext cx="78948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ko-KR" sz="3200" spc="-1" strike="noStrike">
                <a:solidFill>
                  <a:srgbClr val="d71f1b"/>
                </a:solidFill>
                <a:latin typeface="Microsoft YaHei"/>
              </a:rPr>
              <a:t>비즈니스 모델 도식화</a:t>
            </a:r>
            <a:endParaRPr b="1" lang="en-US" sz="3200" spc="-1" strike="noStrike">
              <a:solidFill>
                <a:srgbClr val="d71f1b"/>
              </a:solidFill>
              <a:latin typeface="Microsoft YaHei"/>
            </a:endParaRPr>
          </a:p>
        </p:txBody>
      </p:sp>
      <p:sp>
        <p:nvSpPr>
          <p:cNvPr id="134" name=""/>
          <p:cNvSpPr/>
          <p:nvPr/>
        </p:nvSpPr>
        <p:spPr>
          <a:xfrm>
            <a:off x="922320" y="3589200"/>
            <a:ext cx="1181160" cy="1254240"/>
          </a:xfrm>
          <a:prstGeom prst="rect">
            <a:avLst/>
          </a:prstGeom>
          <a:solidFill>
            <a:srgbClr val="ea5b58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5f5f5f"/>
                </a:solidFill>
                <a:latin typeface="Arial"/>
              </a:rPr>
              <a:t>구성 제품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5f5f5f"/>
                </a:solidFill>
                <a:latin typeface="Arial"/>
              </a:rPr>
              <a:t>공급 업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187880" y="3222720"/>
            <a:ext cx="1444680" cy="1620720"/>
          </a:xfrm>
          <a:prstGeom prst="ellipse">
            <a:avLst/>
          </a:prstGeom>
          <a:solidFill>
            <a:srgbClr val="ffa6a6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f5f5f"/>
                </a:solidFill>
                <a:latin typeface="Arial"/>
              </a:rPr>
              <a:t>NEWB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7618320" y="3519360"/>
            <a:ext cx="1198800" cy="1252800"/>
          </a:xfrm>
          <a:prstGeom prst="rect">
            <a:avLst/>
          </a:prstGeom>
          <a:solidFill>
            <a:srgbClr val="ea5b58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5f5f5f"/>
                </a:solidFill>
                <a:latin typeface="Arial"/>
              </a:rPr>
              <a:t>소비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/>
          <p:nvPr/>
        </p:nvCxnSpPr>
        <p:spPr>
          <a:xfrm>
            <a:off x="2409480" y="3779640"/>
            <a:ext cx="1491480" cy="1080"/>
          </a:xfrm>
          <a:prstGeom prst="straightConnector1">
            <a:avLst/>
          </a:prstGeom>
          <a:ln w="9360">
            <a:solidFill>
              <a:srgbClr val="5f5f5f"/>
            </a:solidFill>
            <a:miter/>
            <a:tailEnd len="med" type="triangle" w="med"/>
          </a:ln>
        </p:spPr>
      </p:cxnSp>
      <p:sp>
        <p:nvSpPr>
          <p:cNvPr id="138" name=""/>
          <p:cNvSpPr/>
          <p:nvPr/>
        </p:nvSpPr>
        <p:spPr>
          <a:xfrm>
            <a:off x="2441520" y="3336840"/>
            <a:ext cx="145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5f5f5f"/>
                </a:solidFill>
                <a:latin typeface="Arial"/>
              </a:rPr>
              <a:t>음식 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/>
          <p:nvPr/>
        </p:nvCxnSpPr>
        <p:spPr>
          <a:xfrm flipH="1">
            <a:off x="2440800" y="4406400"/>
            <a:ext cx="1459800" cy="1080"/>
          </a:xfrm>
          <a:prstGeom prst="straightConnector1">
            <a:avLst/>
          </a:prstGeom>
          <a:ln w="9360">
            <a:solidFill>
              <a:srgbClr val="5f5f5f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923760" y="1459080"/>
            <a:ext cx="5794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5f5f5f"/>
                </a:solidFill>
                <a:latin typeface="Arial"/>
              </a:rPr>
              <a:t>BM:</a:t>
            </a:r>
            <a:r>
              <a:rPr b="0" lang="ko-KR" sz="1800" spc="-1" strike="noStrike">
                <a:solidFill>
                  <a:srgbClr val="5f5f5f"/>
                </a:solidFill>
                <a:latin typeface="Arial"/>
              </a:rPr>
              <a:t>플랫폼형</a:t>
            </a:r>
            <a:r>
              <a:rPr b="0" lang="ko-KR" sz="1800" spc="-1" strike="noStrike">
                <a:solidFill>
                  <a:srgbClr val="5f5f5f"/>
                </a:solidFill>
                <a:latin typeface="Arial"/>
              </a:rPr>
              <a:t>/</a:t>
            </a:r>
            <a:r>
              <a:rPr b="0" lang="ko-KR" sz="1800" spc="-1" strike="noStrike">
                <a:solidFill>
                  <a:srgbClr val="5f5f5f"/>
                </a:solidFill>
                <a:latin typeface="Arial"/>
              </a:rPr>
              <a:t>수익공식</a:t>
            </a:r>
            <a:r>
              <a:rPr b="0" lang="ko-KR" sz="1800" spc="-1" strike="noStrike">
                <a:solidFill>
                  <a:srgbClr val="5f5f5f"/>
                </a:solidFill>
                <a:latin typeface="Arial"/>
              </a:rPr>
              <a:t>/</a:t>
            </a:r>
            <a:r>
              <a:rPr b="0" lang="ko-KR" sz="1800" spc="-1" strike="noStrike">
                <a:solidFill>
                  <a:srgbClr val="5f5f5f"/>
                </a:solidFill>
                <a:latin typeface="Arial"/>
              </a:rPr>
              <a:t>회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5f5f5f"/>
                </a:solidFill>
                <a:latin typeface="Arial"/>
              </a:rPr>
              <a:t>개인 맞춤형 큐레이션 플랫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箭头 74"/>
          <p:cNvSpPr/>
          <p:nvPr/>
        </p:nvSpPr>
        <p:spPr>
          <a:xfrm>
            <a:off x="5842080" y="3780000"/>
            <a:ext cx="1371600" cy="0"/>
          </a:xfrm>
          <a:prstGeom prst="line">
            <a:avLst/>
          </a:prstGeom>
          <a:ln w="936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箭头 75"/>
          <p:cNvSpPr/>
          <p:nvPr/>
        </p:nvSpPr>
        <p:spPr>
          <a:xfrm flipH="1">
            <a:off x="5842080" y="4406760"/>
            <a:ext cx="1371600" cy="0"/>
          </a:xfrm>
          <a:prstGeom prst="line">
            <a:avLst/>
          </a:prstGeom>
          <a:ln w="936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502240" y="3336840"/>
            <a:ext cx="211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5f5f5f"/>
                </a:solidFill>
                <a:latin typeface="Arial"/>
              </a:rPr>
              <a:t>맞춤화 제품 배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06600" y="4522680"/>
            <a:ext cx="29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5f5f5f"/>
                </a:solidFill>
                <a:latin typeface="Arial"/>
              </a:rPr>
              <a:t>제품 대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5f5f5f"/>
                </a:solidFill>
                <a:latin typeface="Arial"/>
              </a:rPr>
              <a:t>고객 피드백 분석 데이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958000" y="4522680"/>
            <a:ext cx="125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5f5f5f"/>
                </a:solidFill>
                <a:latin typeface="Arial"/>
              </a:rPr>
              <a:t>구독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22320" y="104400"/>
            <a:ext cx="78948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3200" spc="-1" strike="noStrike">
                <a:solidFill>
                  <a:srgbClr val="d71f1b"/>
                </a:solidFill>
                <a:latin typeface="Microsoft YaHei"/>
              </a:rPr>
              <a:t>핵심</a:t>
            </a:r>
            <a:r>
              <a:rPr b="1" lang="ko-KR" sz="3200" spc="-1" strike="noStrike">
                <a:solidFill>
                  <a:srgbClr val="d71f1b"/>
                </a:solidFill>
                <a:latin typeface="Microsoft YaHei"/>
              </a:rPr>
              <a:t> </a:t>
            </a:r>
            <a:r>
              <a:rPr b="1" lang="zh-CN" sz="3200" spc="-1" strike="noStrike">
                <a:solidFill>
                  <a:srgbClr val="d71f1b"/>
                </a:solidFill>
                <a:latin typeface="Microsoft YaHei"/>
              </a:rPr>
              <a:t>제공</a:t>
            </a:r>
            <a:r>
              <a:rPr b="1" lang="ko-KR" sz="3200" spc="-1" strike="noStrike">
                <a:solidFill>
                  <a:srgbClr val="d71f1b"/>
                </a:solidFill>
                <a:latin typeface="Microsoft YaHei"/>
              </a:rPr>
              <a:t> </a:t>
            </a:r>
            <a:r>
              <a:rPr b="1" lang="zh-CN" sz="3200" spc="-1" strike="noStrike">
                <a:solidFill>
                  <a:srgbClr val="d71f1b"/>
                </a:solidFill>
                <a:latin typeface="Microsoft YaHei"/>
              </a:rPr>
              <a:t>가치</a:t>
            </a:r>
            <a:endParaRPr b="1" lang="en-US" sz="3200" spc="-1" strike="noStrike">
              <a:solidFill>
                <a:srgbClr val="d71f1b"/>
              </a:solidFill>
              <a:latin typeface="Microsoft YaHe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22320" y="1339920"/>
            <a:ext cx="7894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  <a:p>
            <a:pPr marL="361800"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  <a:p>
            <a:pPr marL="361800" indent="-361800" algn="just">
              <a:lnSpc>
                <a:spcPct val="110000"/>
              </a:lnSpc>
              <a:spcBef>
                <a:spcPts val="1012"/>
              </a:spcBef>
              <a:buClr>
                <a:srgbClr val="ea5b58"/>
              </a:buClr>
              <a:buSzPct val="80000"/>
              <a:buFont typeface="Wingdings 2" charset="2"/>
              <a:buChar char="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2400" spc="-1" strike="noStrike">
                <a:solidFill>
                  <a:srgbClr val="ea5b58"/>
                </a:solidFill>
                <a:latin typeface="Microsoft YaHei"/>
              </a:rPr>
              <a:t>저관여 제품이나 간단한 도시락 혹은 다이어트 도시락에서 육아용품 정기 구독하는 서브스크립션 서비스</a:t>
            </a: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  <a:p>
            <a:pPr marL="361800" indent="-361800" algn="just">
              <a:lnSpc>
                <a:spcPct val="110000"/>
              </a:lnSpc>
              <a:spcBef>
                <a:spcPts val="1012"/>
              </a:spcBef>
              <a:buClr>
                <a:srgbClr val="ea5b58"/>
              </a:buClr>
              <a:buSzPct val="80000"/>
              <a:buFont typeface="Wingdings 2" charset="2"/>
              <a:buChar char="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2400" spc="-1" strike="noStrike">
                <a:solidFill>
                  <a:srgbClr val="ea5b58"/>
                </a:solidFill>
                <a:latin typeface="Microsoft YaHei"/>
              </a:rPr>
              <a:t>구독 하는 동안은 일정 기간 동안 확보 된 고객이므로 저렴한 가격에 제공</a:t>
            </a: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  <a:p>
            <a:pPr marL="361800" indent="-361800" algn="just">
              <a:lnSpc>
                <a:spcPct val="110000"/>
              </a:lnSpc>
              <a:spcBef>
                <a:spcPts val="1012"/>
              </a:spcBef>
              <a:buClr>
                <a:srgbClr val="ea5b58"/>
              </a:buClr>
              <a:buSzPct val="80000"/>
              <a:buFont typeface="Wingdings 2" charset="2"/>
              <a:buChar char="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2400" spc="-1" strike="noStrike">
                <a:solidFill>
                  <a:srgbClr val="ea5b58"/>
                </a:solidFill>
                <a:latin typeface="Microsoft YaHei"/>
              </a:rPr>
              <a:t>당일 주문은 당일 출고를 원칙으로 한다</a:t>
            </a:r>
            <a:r>
              <a:rPr b="0" lang="ko-KR" sz="2400" spc="-1" strike="noStrike">
                <a:solidFill>
                  <a:srgbClr val="ea5b58"/>
                </a:solidFill>
                <a:latin typeface="Microsoft YaHei"/>
              </a:rPr>
              <a:t>.</a:t>
            </a: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  <a:p>
            <a:pPr marL="361800"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22320" y="104400"/>
            <a:ext cx="78948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3200" spc="-1" strike="noStrike">
                <a:solidFill>
                  <a:srgbClr val="d71f1b"/>
                </a:solidFill>
                <a:latin typeface="Microsoft YaHei"/>
              </a:rPr>
              <a:t>수익공식</a:t>
            </a:r>
            <a:endParaRPr b="1" lang="en-US" sz="3200" spc="-1" strike="noStrike">
              <a:solidFill>
                <a:srgbClr val="d71f1b"/>
              </a:solidFill>
              <a:latin typeface="Microsoft YaHe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22320" y="1339920"/>
            <a:ext cx="7894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  <a:p>
            <a:pPr marL="361800" indent="-361800" algn="just">
              <a:lnSpc>
                <a:spcPct val="110000"/>
              </a:lnSpc>
              <a:spcBef>
                <a:spcPts val="1012"/>
              </a:spcBef>
              <a:buClr>
                <a:srgbClr val="ea5b58"/>
              </a:buClr>
              <a:buSzPct val="80000"/>
              <a:buFont typeface="Wingdings 2" charset="2"/>
              <a:buChar char="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2400" spc="-1" strike="noStrike">
                <a:solidFill>
                  <a:srgbClr val="ea5b58"/>
                </a:solidFill>
                <a:latin typeface="Microsoft YaHei"/>
              </a:rPr>
              <a:t>고객에게 일정의 구독료를 받아 운영</a:t>
            </a: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  <a:p>
            <a:pPr marL="361800" indent="-361800" algn="just">
              <a:lnSpc>
                <a:spcPct val="110000"/>
              </a:lnSpc>
              <a:spcBef>
                <a:spcPts val="1012"/>
              </a:spcBef>
              <a:buClr>
                <a:srgbClr val="ea5b58"/>
              </a:buClr>
              <a:buSzPct val="80000"/>
              <a:buFont typeface="Wingdings 2" charset="2"/>
              <a:buChar char="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2400" spc="-1" strike="noStrike">
                <a:solidFill>
                  <a:srgbClr val="ea5b58"/>
                </a:solidFill>
                <a:latin typeface="Microsoft YaHei"/>
              </a:rPr>
              <a:t>고객에게 받은 구독료 중 일부를 업체에게 제공</a:t>
            </a: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  <a:p>
            <a:pPr marL="361800"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  <a:p>
            <a:pPr marL="361800"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  <a:p>
            <a:pPr marL="361800" indent="-361800" algn="just">
              <a:lnSpc>
                <a:spcPct val="110000"/>
              </a:lnSpc>
              <a:spcBef>
                <a:spcPts val="1012"/>
              </a:spcBef>
              <a:buClr>
                <a:srgbClr val="ea5b58"/>
              </a:buClr>
              <a:buSzPct val="80000"/>
              <a:buFont typeface="Wingdings 2" charset="2"/>
              <a:buChar char="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2400" spc="-1" strike="noStrike">
                <a:solidFill>
                  <a:srgbClr val="ea5b58"/>
                </a:solidFill>
                <a:latin typeface="Microsoft YaHei"/>
              </a:rPr>
              <a:t>구</a:t>
            </a:r>
            <a:r>
              <a:rPr b="0" lang="zh-CN" sz="2400" spc="-1" strike="noStrike">
                <a:solidFill>
                  <a:srgbClr val="ea5b58"/>
                </a:solidFill>
                <a:latin typeface="Microsoft YaHei"/>
              </a:rPr>
              <a:t>독이라는 점을 이용하여 한 고객에게 일정한 시간동안 간격을 두고 물건을 배송시켜 줌으로 인해 고객을 확보 할 수</a:t>
            </a:r>
            <a:r>
              <a:rPr b="0" lang="ko-KR" sz="2400" spc="-1" strike="noStrike">
                <a:solidFill>
                  <a:srgbClr val="ea5b58"/>
                </a:solidFill>
                <a:latin typeface="Microsoft YaHei"/>
              </a:rPr>
              <a:t> 있음</a:t>
            </a: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  <a:p>
            <a:pPr marL="361800" indent="-361800" algn="just">
              <a:lnSpc>
                <a:spcPct val="110000"/>
              </a:lnSpc>
              <a:spcBef>
                <a:spcPts val="1012"/>
              </a:spcBef>
              <a:buClr>
                <a:srgbClr val="ea5b58"/>
              </a:buClr>
              <a:buSzPct val="80000"/>
              <a:buFont typeface="Wingdings 2" charset="2"/>
              <a:buChar char="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2400" spc="-1" strike="noStrike">
                <a:solidFill>
                  <a:srgbClr val="ea5b58"/>
                </a:solidFill>
                <a:latin typeface="Microsoft YaHei"/>
              </a:rPr>
              <a:t>육아용품이나 저관여 제품같은 경우 주 혹은 달 마다 제품이 모두 사용해 갈 때쯤 물건을 받아 볼 수 있다</a:t>
            </a:r>
            <a:r>
              <a:rPr b="0" lang="ko-KR" sz="2400" spc="-1" strike="noStrike">
                <a:solidFill>
                  <a:srgbClr val="ea5b58"/>
                </a:solidFill>
                <a:latin typeface="Microsoft YaHei"/>
              </a:rPr>
              <a:t>.</a:t>
            </a: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  <a:p>
            <a:pPr marL="361800"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150" name=""/>
          <p:cNvSpPr/>
          <p:nvPr/>
        </p:nvSpPr>
        <p:spPr>
          <a:xfrm>
            <a:off x="922320" y="3355920"/>
            <a:ext cx="760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5b58"/>
                </a:solidFill>
                <a:latin typeface="Arial"/>
              </a:rPr>
              <a:t>핵심자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22320" y="104400"/>
            <a:ext cx="78948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ko-KR" sz="3200" spc="-1" strike="noStrike">
                <a:solidFill>
                  <a:srgbClr val="d71f1b"/>
                </a:solidFill>
                <a:latin typeface="Microsoft YaHei"/>
              </a:rPr>
              <a:t>핵심 프로세스</a:t>
            </a:r>
            <a:endParaRPr b="1" lang="en-US" sz="3200" spc="-1" strike="noStrike">
              <a:solidFill>
                <a:srgbClr val="d71f1b"/>
              </a:solidFill>
              <a:latin typeface="Microsoft YaHe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22320" y="1339920"/>
            <a:ext cx="7894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1012"/>
              </a:spcBef>
              <a:buClr>
                <a:srgbClr val="ea5b58"/>
              </a:buClr>
              <a:buSzPct val="80000"/>
              <a:buFont typeface="Wingdings 2" charset="2"/>
              <a:buChar char="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2400" spc="-1" strike="noStrike">
                <a:solidFill>
                  <a:srgbClr val="ea5b58"/>
                </a:solidFill>
                <a:latin typeface="Microsoft YaHei"/>
              </a:rPr>
              <a:t>음식인 경우가 대 부분이므로 당일 주문 당일 출고 원칙을 삼아야 한다</a:t>
            </a:r>
            <a:r>
              <a:rPr b="0" lang="ko-KR" sz="2400" spc="-1" strike="noStrike">
                <a:solidFill>
                  <a:srgbClr val="ea5b58"/>
                </a:solidFill>
                <a:latin typeface="Microsoft YaHei"/>
              </a:rPr>
              <a:t>.</a:t>
            </a: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  <a:p>
            <a:pPr marL="361800"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  <a:p>
            <a:pPr marL="361800"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  <a:p>
            <a:pPr marL="361800" indent="-361800" algn="just">
              <a:lnSpc>
                <a:spcPct val="110000"/>
              </a:lnSpc>
              <a:spcBef>
                <a:spcPts val="1012"/>
              </a:spcBef>
              <a:buClr>
                <a:srgbClr val="ea5b58"/>
              </a:buClr>
              <a:buSzPct val="80000"/>
              <a:buFont typeface="Wingdings 2" charset="2"/>
              <a:buChar char="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2400" spc="-1" strike="noStrike">
                <a:solidFill>
                  <a:srgbClr val="ea5b58"/>
                </a:solidFill>
                <a:latin typeface="Microsoft YaHei"/>
              </a:rPr>
              <a:t>배민프레시</a:t>
            </a:r>
            <a:r>
              <a:rPr b="0" lang="ko-KR" sz="2400" spc="-1" strike="noStrike">
                <a:solidFill>
                  <a:srgbClr val="ea5b58"/>
                </a:solidFill>
                <a:latin typeface="Microsoft YaHei"/>
              </a:rPr>
              <a:t>, </a:t>
            </a:r>
            <a:r>
              <a:rPr b="0" lang="ko-KR" sz="2400" spc="-1" strike="noStrike">
                <a:solidFill>
                  <a:srgbClr val="ea5b58"/>
                </a:solidFill>
                <a:latin typeface="Microsoft YaHei"/>
              </a:rPr>
              <a:t>쿠팡의 정기구독 서비스</a:t>
            </a: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153" name=""/>
          <p:cNvSpPr/>
          <p:nvPr/>
        </p:nvSpPr>
        <p:spPr>
          <a:xfrm>
            <a:off x="996840" y="2771640"/>
            <a:ext cx="410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5b58"/>
                </a:solidFill>
                <a:latin typeface="Arial"/>
              </a:rPr>
              <a:t>유사 비즈니스 사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2T09:28:30Z</dcterms:created>
  <dc:creator>Hyunah</dc:creator>
  <dc:description/>
  <dc:language>en-US</dc:language>
  <cp:lastModifiedBy/>
  <dcterms:modified xsi:type="dcterms:W3CDTF">2016-03-23T14:27:06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11</vt:lpwstr>
  </property>
</Properties>
</file>